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7B2-D440-4B2E-A200-D460FFA7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02E-45D3-4F04-9034-88EC0550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FC2-71C5-42D6-8B40-74C91339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FF1-6BAF-499A-AF84-CD8EA0B0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024-FDE0-4363-AF4D-B5D39F00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F45B-2858-47E6-8DAF-E3A9A281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E46-3C3C-4179-9026-174E17A0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F6F-B7D1-4C8A-BFDF-9DC0F3A7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5A23-3182-4FDE-9773-BB5F39AE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E594-4789-442C-A948-B1EE131E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436-4571-4D14-BC7E-54B68181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273-8506-4696-9731-7BC231B0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2730-D1CC-4B18-B9F0-871DA99BE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7632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32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1:19:30Z</dcterms:created>
  <dc:creator>RDPL CLP</dc:creator>
  <dc:description/>
  <dc:language>en-US</dc:language>
  <cp:lastModifiedBy>ripkensa</cp:lastModifiedBy>
  <dcterms:modified xsi:type="dcterms:W3CDTF">2009-10-18T18:08:41Z</dcterms:modified>
  <cp:revision>2</cp:revision>
  <dc:subject/>
  <dc:title>PowerPoint Presentation</dc:title>
</cp:coreProperties>
</file>